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271-CDAB-4544-B88D-C4A9C350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F24-672A-4A91-8D14-2F06A5EC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071-8337-4522-BA35-78AB3C63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49F-F109-487A-B61F-A4942B25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C617-20BF-4DFF-A9B1-92C4F2DA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3FAE-1D4E-423F-9E35-4C8FD3CC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09B2-FC1B-47A0-92F2-74939AA8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CD90-B0C9-4855-9DAC-CA1A827E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82A1-C8AF-41F5-BE01-20524A11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CD1A-9C85-4DCE-9ED8-D5DF8F4F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41C6-5AEE-47EC-AFD2-2997978E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360-0D16-4597-9555-0877F888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1C17-7691-4613-82A3-C84632CE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6E69-488C-41A4-A225-F0BABC74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E0CB-9EAF-4415-8559-40C885D3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612E-695E-4C08-A15C-7F51A5F3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AB5B-E72F-4B9D-B129-5289181D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C8C-50CE-4657-A08F-5FF8B6B2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C9E-3042-4472-B24A-CDFFB5DE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349-1FE9-4A43-81E3-A6C21FC6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625-596E-4B48-A43A-14661353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588-A99A-4373-BD5F-3884EE12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48A-69C5-4234-B278-D40181C5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D19-4406-47B9-AA30-4184D540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2CE3-23D2-4250-AF2D-92C8AAF40C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54E7-1BD7-446F-940A-E3508CCE75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Tahoma"/>
              </a:rPr>
              <a:t>ЕВАЛУАЦИОНИ ТЕСТОВИ КОД</a:t>
            </a:r>
            <a:br>
              <a:rPr sz="3600"/>
            </a:br>
            <a:r>
              <a:rPr b="1" lang="sr-CS" sz="3600" spc="-1" strike="noStrike">
                <a:solidFill>
                  <a:srgbClr val="eaeaea"/>
                </a:solidFill>
                <a:latin typeface="Tahoma"/>
              </a:rPr>
              <a:t>ПОСТТРАУМАТСКИХ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eaeaea"/>
                </a:solidFill>
                <a:latin typeface="Tahoma"/>
              </a:rPr>
              <a:t>И ОРТОПЕДСКИХ БОЛЕСНИКА</a:t>
            </a:r>
            <a:br>
              <a:rPr sz="3600"/>
            </a:br>
            <a:r>
              <a:rPr b="1" lang="sr-CS" sz="3600" spc="-1" strike="noStrike">
                <a:solidFill>
                  <a:srgbClr val="eaeaea"/>
                </a:solidFill>
                <a:latin typeface="Tahoma"/>
              </a:rPr>
              <a:t> </a:t>
            </a:r>
            <a:br>
              <a:rPr sz="3600"/>
            </a:br>
            <a:r>
              <a:rPr b="1" lang="sr-CS" sz="3600" spc="-1" strike="noStrike">
                <a:solidFill>
                  <a:srgbClr val="eaeaea"/>
                </a:solidFill>
                <a:latin typeface="Tahoma"/>
              </a:rPr>
              <a:t>Евалуација пацијената са ендопротезом кук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сечно време трајања ендопротезе је око 15 годи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динама поједини делови ендопротезе могу да се разлабаве (што код пацијента проузрокује болове при кретањ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ође долази до трошења материјала и неправилног оптерећења зглоб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ко дође до разлабављења индиковано је поновно оперативно лечење (нестабилна компонента се замен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ветује се једном годишње контролни преглед ортопеда са  РТГ карлице са оба ку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eaeaea"/>
                </a:solidFill>
                <a:latin typeface="Tahoma"/>
              </a:rPr>
              <a:t>ИНДИКАЦИЈ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ЕТРАУМАТОЛОШКИ УЗРОЦ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5560" indent="-397440"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латерално дегенеративно измењени кукови где је потребно бар један кук оспособити за кретањ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5560" indent="-397440"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ксартроза као последица конгениталне дисплаз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5560" indent="-397440"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нигни тум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5560" indent="-397440"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ске реуматске болести (ра,сле,спондилоартропатиј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РАУМАТОЛОШКИ УЗРОЦ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5560" indent="-397440"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жа трауматска оштећења ацетабулу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5560" indent="-397440"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еже субкапиталне и трансцервикалне фрактуре врата фем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5560" indent="-397440"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оше срасле фрактуре врата фем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5560" indent="-397440"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сеудоартрозе врата фем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5560" indent="-397440"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успешни претходни оп захва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ПРЕОПЕРАТИВНИ РЕХАБИЛИТАЦИОНИ ТРЕТМА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жб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са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жб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јачањ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ускулатуре: вежб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јачањ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шић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рњих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кстремитет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уп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започињање кхт програма преоперативно значајно умањује утицај постопертивне имобилизације на мишићну слабост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жб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већање обим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крет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ков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вежбавањ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од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штак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дукациј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гућим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мпликацијам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о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х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речит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П</a:t>
            </a:r>
            <a:r>
              <a:rPr b="1" lang="sr-RS" sz="3600" spc="-1" strike="noStrike">
                <a:solidFill>
                  <a:srgbClr val="eaeaea"/>
                </a:solidFill>
                <a:latin typeface="Tahoma"/>
              </a:rPr>
              <a:t>ОСТ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ОПЕРАТИВНИ РЕХАБИЛИТАЦИОНИ ТРЕТМА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КИНЕЗИТЕРАП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ИФ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ИМ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инезитерапиј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одржава и повећава покретљивост оп к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одржава и повећава мишићну масу натколенице и ноге у цели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обука правилној употреби помагала за х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обука и аутоматизација стајања и хода, као и одржавање и промена основних положаја и акт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спрешавање сек.дефицита, деловање ктх на бол, релаксацију, општу кондицију, издрживост, координациј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aeaea"/>
                </a:solidFill>
                <a:latin typeface="Tahoma"/>
              </a:rPr>
              <a:t>Медицинска рехабилитациј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ункционални опоравак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кон операције кука се одређује помоћу специфичних тестова: Харис Хип скор, Оксфорд скор, Салвати Вилсоновом тес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процени функционалности али и сагледавању фактора ризика користимо временски тест „Устани и Крени“ (ТУГ), и Међународну скалу за ризик од пада (ФЕС-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aeaea"/>
                </a:solidFill>
                <a:latin typeface="Tahoma"/>
              </a:rPr>
              <a:t>Медицинска рехабилитациј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пресија и когнитивно оштећење су честа коморбидитетна стања код пацијената након прелома кука и предвиђају значајно лошији исход рехабилитације и функционалног квалитета живота код особа старије животне доби а објективизирају се применом Мини Ментал Скора (ММС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Физиотерапеутска функционална проце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ужина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оњих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кстремит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им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крета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глобовима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им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кстремит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М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л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ВАС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кал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ансф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це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ржа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це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купан резултат рехабилитациј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успешан, задовољавајући, неуспеша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aeaea"/>
                </a:solidFill>
                <a:latin typeface="Tahoma"/>
              </a:rPr>
              <a:t>Функционална</a:t>
            </a: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4400" spc="-1" strike="noStrike">
                <a:solidFill>
                  <a:srgbClr val="eaeaea"/>
                </a:solidFill>
                <a:latin typeface="Tahoma"/>
              </a:rPr>
              <a:t>мерењ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Дужина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доњих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екстрем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Обим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покрета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зглобовима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Обим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екстремитета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Трофика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мишића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ММТ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Мишићна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снага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Бол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кроз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ВАС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скал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Трансф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Процена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држањ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Процена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хода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Функционално оспособљавањ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оводи до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 смањења или нестанка бо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. постизања оптималне функционалне амплитуде покрета оперисаног ку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. јачање пелвифеморалне мускулату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. коректан х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ff"/>
                </a:solidFill>
                <a:latin typeface="Tahoma"/>
              </a:rPr>
              <a:t>Артропласти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Хируршки захват којим се формира зглоб који функционално и морфолошки одговара нормалноме зглоб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Доводи до поновног успостављања безболне покретљивости зглоба уз очување његове стабил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Ендопротезе су зглобови који се уграђују у тело уместо патолошки промењених или уништених зглоб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ОЦЕНА ФУНКЦИОНАЛН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ступни тестов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Oxford Hip Scor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The McMaster Toronto Arthritis Patient Preference Disability Questionnaire (MACTAR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Japanese Orthopedic Scor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The SF-36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Merle d’Aubigné and Postel Scor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 The Western Ontario and McMaster Universities Arthritis Index (WOMAC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Harris Hip Sc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. Short Physical Performance Battery (SPP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Salvati-Wilson skala-</a:t>
            </a:r>
            <a:br>
              <a:rPr sz="44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modifikovana(Jevtic, Jovanovic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2640" y="3048120"/>
            <a:ext cx="7543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Бол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/</a:t>
            </a: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Инверзн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ВАС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скал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Обим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покрет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Снаг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мишић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Ходањ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Функ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9144000" cy="6932520"/>
        </p:xfrm>
        <a:graphic>
          <a:graphicData uri="http://schemas.openxmlformats.org/drawingml/2006/table">
            <a:tbl>
              <a:tblPr/>
              <a:tblGrid>
                <a:gridCol w="3886200"/>
                <a:gridCol w="5257800"/>
              </a:tblGrid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 Bol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rzna VAS ska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 Snaga mi</a:t>
                      </a: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ć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949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0 - nepodno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ljiv bol - potrebni jaki analgetic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 - intezivan bol- bla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z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i analgetic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4 - jak bol- kupira se fizikalnim procedura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 - bol srednjeg intezite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 - umeren b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 - blag bol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0 - 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 - 10%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4 - 25%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 - 50%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 - 75%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 - 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93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) Obim pokre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D) Hoda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1949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0 - ankiloz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 - kontraktura sa dobrom funkcionalnom pozicij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4 - ograni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nost pokreta do 2/3 (75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 - ograni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nost pokreta do 1/2 (50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 - ograni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nost pokreta do 1/3 (30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 - normalna pokretljiv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0 - vezan za krev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 - vezan za kol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4 - vezan za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š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talic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 - upotreba jednog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š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apa, hoda do 5 stanbenih bloko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 - upotreba jednog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št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apa, hoda duge d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 - hoda bez upotrebe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š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apa na duge relacij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40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D) Funkc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1682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0 - vezan za krev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 - vezan za ku}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4 - ograni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na sposbnost obavljanja ku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đ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nih aktivnos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 - obavlja ve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ć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inu ku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ć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nih poslova, ide u kupovin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 - bl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ge restrikcije fizi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ke aktivnos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 - normalna aktivn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 u="sng">
                <a:solidFill>
                  <a:srgbClr val="eaeaea"/>
                </a:solidFill>
                <a:uFillTx/>
                <a:latin typeface="Tahoma"/>
              </a:rPr>
              <a:t>Евалуација</a:t>
            </a: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 </a:t>
            </a:r>
            <a:r>
              <a:rPr b="1" i="1" lang="sr-RS" sz="4400" spc="-1" strike="noStrike" u="sng">
                <a:solidFill>
                  <a:srgbClr val="eaeaea"/>
                </a:solidFill>
                <a:uFillTx/>
                <a:latin typeface="Tahoma"/>
              </a:rPr>
              <a:t>прати</a:t>
            </a: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 </a:t>
            </a:r>
            <a:r>
              <a:rPr b="1" i="1" lang="sr-RS" sz="4400" spc="-1" strike="noStrike" u="sng">
                <a:solidFill>
                  <a:srgbClr val="eaeaea"/>
                </a:solidFill>
                <a:uFillTx/>
                <a:latin typeface="Tahoma"/>
              </a:rPr>
              <a:t>и</a:t>
            </a: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 </a:t>
            </a:r>
            <a:r>
              <a:rPr b="1" i="1" lang="sr-RS" sz="4400" spc="-1" strike="noStrike" u="sng">
                <a:solidFill>
                  <a:srgbClr val="eaeaea"/>
                </a:solidFill>
                <a:uFillTx/>
                <a:latin typeface="Tahoma"/>
              </a:rPr>
              <a:t>ове</a:t>
            </a: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 </a:t>
            </a:r>
            <a:r>
              <a:rPr b="1" i="1" lang="sr-RS" sz="4400" spc="-1" strike="noStrike" u="sng">
                <a:solidFill>
                  <a:srgbClr val="eaeaea"/>
                </a:solidFill>
                <a:uFillTx/>
                <a:latin typeface="Tahoma"/>
              </a:rPr>
              <a:t>показатеље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Врем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вертикализациј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кад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дозвољен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ослона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егалитет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ног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Инфек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ahoma"/>
              </a:rPr>
              <a:t>морталит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Tahoma"/>
              </a:rPr>
              <a:t>"MPH Therapiescore“</a:t>
            </a:r>
            <a:br>
              <a:rPr sz="5400"/>
            </a:br>
            <a:br>
              <a:rPr sz="5400"/>
            </a:br>
            <a:r>
              <a:rPr b="1" lang="sr-Latn-CS" sz="4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4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  </a:t>
            </a:r>
            <a:r>
              <a:rPr b="1" lang="sr-Latn-CS" sz="4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HUBERTUS  TEST</a:t>
            </a:r>
            <a:br>
              <a:rPr sz="5400"/>
            </a:br>
            <a:br>
              <a:rPr sz="54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- objektivizacija terapijskog toka nakon traume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 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M Auracher, M. Muller, H. Horterer, Kranknegymnastik, 54 (2000) 2: 247-249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ahoma"/>
              </a:rPr>
              <a:t>Therapiescore MPH</a:t>
            </a:r>
            <a:br>
              <a:rPr sz="3200"/>
            </a:br>
            <a:r>
              <a:rPr b="1" lang="sr-Latn-CS" sz="3200" spc="-1" strike="noStrike">
                <a:solidFill>
                  <a:srgbClr val="eaeaea"/>
                </a:solidFill>
                <a:latin typeface="Tahoma"/>
              </a:rPr>
              <a:t>skor u Medical Park St. Hubertu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42640" y="30477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PH -therapiescore predstavlja jednostavnu metodologiju, a omogućava praćenje 7 parametara sa numeričkim vrednovanj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2422440"/>
          <a:ext cx="8381880" cy="3902040"/>
        </p:xfrm>
        <a:graphic>
          <a:graphicData uri="http://schemas.openxmlformats.org/drawingml/2006/table">
            <a:tbl>
              <a:tblPr/>
              <a:tblGrid>
                <a:gridCol w="2911320"/>
                <a:gridCol w="1824120"/>
                <a:gridCol w="1822680"/>
                <a:gridCol w="182376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VO MEREN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GO MEREN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EĆE MEREN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RAPE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iansa (1-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ok (1-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ol (1-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P (1-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ening (1-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P (1-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erećenje (1-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1"/>
          <p:cNvSpPr/>
          <p:nvPr/>
        </p:nvSpPr>
        <p:spPr>
          <a:xfrm>
            <a:off x="0" y="71640"/>
            <a:ext cx="91440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DICAL PAR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UBERTUS 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me i prezime: _____________________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atum rođenja: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atum povređivanja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ijagnoza:__________________________________________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očetak fizikalnog lečenja______________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52280" y="1676520"/>
          <a:ext cx="8915400" cy="5035320"/>
        </p:xfrm>
        <a:graphic>
          <a:graphicData uri="http://schemas.openxmlformats.org/drawingml/2006/table">
            <a:tbl>
              <a:tblPr/>
              <a:tblGrid>
                <a:gridCol w="1468440"/>
                <a:gridCol w="879480"/>
                <a:gridCol w="822600"/>
                <a:gridCol w="1479240"/>
                <a:gridCol w="1040040"/>
                <a:gridCol w="1212840"/>
                <a:gridCol w="952560"/>
                <a:gridCol w="1060200"/>
              </a:tblGrid>
              <a:tr h="109764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mplian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aradnja/discipl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ubjek.pacijen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-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re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-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-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pterećen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-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u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ax=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= nema sarad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=veoma ja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=veoma ja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= veoma loš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= nema samostalnog trening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= manje od 2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= ne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= extremna ograničen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= minimalna saradn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= ja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= ja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= loš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= </a:t>
                      </a: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30 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= 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= 2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) jaka ograničen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= skromna saradn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=ume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= ume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= dovolj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= </a:t>
                      </a: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40 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= 6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= 4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= ograničen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= mal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= sl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=sl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=zadovoljavajuć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= </a:t>
                      </a: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50 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= 7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= 6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=dovolj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= vrlo mal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= veoma sl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= veoma sl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= dob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= </a:t>
                      </a: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60 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= 8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= 8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= dob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= nema sarad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= nema oto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= nema bo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= vrlo dob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= </a:t>
                      </a: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90 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= 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= 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= vrlo dob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= sposoban za 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= </a:t>
                      </a: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1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= sportska opterećen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= sposobna za 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= sposoban za opterećen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= pun obim pod opterećenj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= sposobna za vrhunska opterećenjau sport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 vrhunska sportska opterećen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ahoma"/>
              </a:rPr>
              <a:t>Therapiescore MPH</a:t>
            </a:r>
            <a:br>
              <a:rPr sz="3200"/>
            </a:br>
            <a:r>
              <a:rPr b="1" lang="sr-Latn-CS" sz="3200" spc="-1" strike="noStrike">
                <a:solidFill>
                  <a:srgbClr val="eaeaea"/>
                </a:solidFill>
                <a:latin typeface="Tahoma"/>
              </a:rPr>
              <a:t>skor u Medical Park St. Hubertu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14264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Ф-36 је генерички мерни образац који се користи за процену укупног здравственог стања пацијен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Ф-36 обухвата 36 питања и 8 скала који процењују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Ограничења у физичким активностима због здравствен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блем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 Ограничења у друштвеним активностима због физичких или емотивн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блем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 Ограничења у уобичајеним активностима због физич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дравствених проблем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) Телесни бол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) Опште ментално здравлј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) Ограничења у уобичајеним активностима због емотивних проблем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) Виталност (енергија и замор)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) Опште здравствено стањ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0663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Харис Хип Скор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ља вишедимензионалну процену и вредновање резултата након оперативног лечења зглоба кука и нашироко се користи као средство за поређење резултата из патологије ку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ачан резултат се креће од 0 (максимум инвалидитета) до 100 бодова (без инвалидитет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држи осам ставки које процењују: бол (укупно 44 поена), функцију хода (укупно 43 поена који се даље дели на активности свакодневног живота 10 поена и ход 33 поена), обим покрета (укупно 5 поена) и одусуство деформитета (укупно 8 поен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глоб кука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rticulatio coxa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глобне компоненте чин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ацетабулум (acetabulum) карличне кости (os coxae) и бутна кост (os femoris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глобни делови с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facies lunata acetabul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caput ossis femo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а велики обим покрета (други са највећом амплитудом покрета, после раменог зглоба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лавни задатак је потпора целој тежини тела током статичких (стајање) и динамичких оптерећења (ходање) као и одржавање равнотеж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ris Hip Score – HHS upitni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um ______________________ Termin Pre 3m 6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e pacijenta ______________________ ID pacijenta __ __ __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irani kuk levi desn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limo Vas da odgovorite na sledeća pitanj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90720" y="52560"/>
          <a:ext cx="7543800" cy="6805440"/>
        </p:xfrm>
        <a:graphic>
          <a:graphicData uri="http://schemas.openxmlformats.org/drawingml/2006/table">
            <a:tbl>
              <a:tblPr/>
              <a:tblGrid>
                <a:gridCol w="3771720"/>
                <a:gridCol w="3772080"/>
              </a:tblGrid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Deo 1 (obeležite jedan odgovor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oln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Pomagal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Bez bola ili ga ignorišete (44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Bez pomagala (11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</a:t>
                      </a:r>
                      <a:r>
                        <a:rPr b="1" lang="sr-R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r>
                        <a:rPr b="1" lang="fi-FI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Slab, povremen, ne ometa Vas u aktivnosti (40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Štap samo za duge šetnje (7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</a:t>
                      </a:r>
                      <a:r>
                        <a:rPr b="1" lang="sr-R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Srednji bol, bez uticaja na svakodnevne aktivnosti, prestaje na uzimanje aspirina (30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Štap potreban za većinu vremena (5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Umeren bol, izdržljiv ali Vas ograničava u obavljanju većine aktivnosti, zahteva povrmeno uzimanje lekova jačih od aspirina (20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Jedna štaka (3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Intezivan bol, ozbiljno ograničava sve aktivnosti (10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Dva štapa za hodanje (2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Neizdrživ bol, koji Vas paralizuje i vezuje za krevet (0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Dve štake ili nemogućnost hodanja (0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66680" y="533520"/>
          <a:ext cx="7543800" cy="548640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Pređena udaljenos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Hramljenj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Neograničena (11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Bez (1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Šest blokova-30 minuta hodanja (8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Slabo (8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Dva- tri bloka 10-15 minuta hodanja (5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Umereno (5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Šetanje u zatvorenom prostoru (2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Teško hodanje ili nemogućnost hodanja (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Samo ležanje ili sedenje (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66680" y="685800"/>
          <a:ext cx="7543800" cy="548640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Aktivnosti- obuvanje cipela i čara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Stepeni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Sa lakoćom obuvanje (4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Normalno bez korišćenja gelendera (4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Sa poteškoćama obuvanje (2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Normalno sa korišćenjem gelendera (2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Nemogućnost obuvanja, nazuvanja (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Na bilo koji način (1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Nemogućnost penjanja uz stepenice (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066680" y="990720"/>
          <a:ext cx="7543800" cy="51814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Javni prevoz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Seden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Moguće korišćenje javnog prevozabusa (1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Udobno u uobičajnoj stolici tokom sat vremena (5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Nemogućnost korišćenja javnog prevoza-busa (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Na visokoj stolici tokom 30 minuta (3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 Nemogućnost sedenja u bilo kojoj stolici (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04920" y="914400"/>
          <a:ext cx="8458200" cy="533412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Deo 2 (zaokružite tačan odgovor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dsustvo deformiteta (sve da=4 , manje od 4 =0 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3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anje od 30 stepeni do punog obima fleksije </a:t>
                      </a:r>
                      <a:r>
                        <a:rPr b="1" lang="sr-R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                              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da </a:t>
                      </a:r>
                      <a:r>
                        <a:rPr b="1" lang="sr-R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anje od 10 st do punog obima unutrašnje rot</a:t>
                      </a:r>
                      <a:r>
                        <a:rPr b="1" lang="sr-R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i ekstenzije </a:t>
                      </a:r>
                      <a:r>
                        <a:rPr b="1" lang="sr-R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da </a:t>
                      </a:r>
                      <a:r>
                        <a:rPr b="1" lang="sr-R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anje od 10 stepeni do punog obima abdukcije</a:t>
                      </a:r>
                      <a:r>
                        <a:rPr b="1" lang="sr-R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                         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da </a:t>
                      </a:r>
                      <a:r>
                        <a:rPr b="1" lang="sr-R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razlika u dužini ekstremiteta manja od 3.2 cm </a:t>
                      </a:r>
                      <a:r>
                        <a:rPr b="1" lang="sr-R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                           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da </a:t>
                      </a:r>
                      <a:r>
                        <a:rPr b="1" lang="sr-R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im pokreta (normalna pokretljivost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kala obima pokre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ksija (140°) ________211°-300° (5) 61°-100° (2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dukcija (40°) ________161°-210° (4) 31°-60° (1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ukcija (40°) ________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1°-160° (3) 0°-30° (0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oljašna rotacija (40°) _______________ Unutrašnja rotacija (40°) 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zultat obima pokreta_________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Harris Hip Score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ačan rezultat se kreće od 0 (maksimalan invaliditet) do 100 bodova (bez invaliditeta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 70 Slab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-79 Korekt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-89 Dob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0-100 Odlič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imed Up and Go Te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ed Up and Go Test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ТУГ) је ефикасан метод процене покретљивости и функције локомоторног система код старијих пацијената. ТУГ-тест је објективан, брз и лак за извођењ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ри у секундама време које је потребно да испитаник устане из стандардне столице са наслоном (приближна висина седишта око 46цм, висина наслона за руку 65цм), ходајући пређе удаљеност од 3 метра, окрене се, хода назад до столице и сед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imed Up and Go Te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итаник носи своју редовну обућу и користи своја уобичајена помагала за ход (ходалица, штап или ништа). Није дозвољена било каква помоћ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ферентне вредности за одређене старосне групе су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0-69 година 8.1 сек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0-79 година 9.2 сек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0-99 година 11.3 се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еме од преко 14 секунди је повезано са високим ризиком од па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јвеће достигнуће у историји ортопедије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градња тоталне ендопротезе ку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ва протеза је уграђена 1890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Један од најчешћих хирушких захвата у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рој уграђених расте из године у годи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ерације трају све кра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к трајања протезе је све дужи (све бољи материјал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е краћа рехабили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бољшана функционалност пације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lls Efficacy Scale- Internation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еђународну скалу за ризик од пада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ls Efficacy Scale- International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ФЕС-И)  је кратак и једноставан тест којим се мери степен забринутости од пада за време друштвених и физичких активности унутар и ван куће и да ли та особа заиста чини физичку активнос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иљана популација испитаника су старије особе са или без историје страха од падањ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lls Efficacy Scale- Internation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ухвата друштвене активности које могу изазвати више забринутости због пада од основних активности представљеним у почетном ФЕС-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ЕС-И је развијена са факторском анализом и показује боље психометријске карактеристике у односу на ФЕС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итаници одговарају на питања колико су забринути због могућности пада током обављањ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акодневних актив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lls Efficacy Scale- Internation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кала садржи укупно 16 питања и 4 понуђена одговор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исам уопште забринут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ало сам забринут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оста сам забринут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ного сам забрину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lls Efficacy Scale- Internation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ачан резултат се креће од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6 до 64 бод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ултат од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6-19 бодов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тавља малу забринутост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0-27 бодов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мерену забринутост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8-64 бодов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соку забринутост за ризик од па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ПАРЦИЈАЛНА ЕНДОПРОТЕЗА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КУК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ирушка интервенција којом се замењује феморална компонента зглоба ку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разумева уградњу феморалне протезе, без замене ацетабула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компоненте зглоб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дикације су најчешће субкапитални преломи врата бутне к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ност парцијалне над тоталном ендопротезом је већа стаб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ност, као и краће в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ме трајања операције и мањи губитак крв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ТОТАЛНЕ ЕНДОПРОТЕЗЕ КУК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њају се обе компоненте зглоб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феморална (има главу, врат и тел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ацетабуларна компонента ендопротезе (садржи лежиште ацетабулума и чашиц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П</a:t>
            </a:r>
            <a:r>
              <a:rPr b="1" lang="sr-RS" sz="4000" spc="-1" strike="noStrike">
                <a:solidFill>
                  <a:srgbClr val="eaeaea"/>
                </a:solidFill>
                <a:latin typeface="Tahoma"/>
              </a:rPr>
              <a:t>одела п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рема начину фиксациј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цемент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бесцемент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хибридн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цементно фиксирана феморална компонента и безцементно фиксирана ацетабуларна компонет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ментна фиксација се обично примењује код старих људи (лош квалитет костију) јер имају већу шансу за прелом кости приликом уградње протез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. Бесцеметне</a:t>
            </a: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ендопротез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 уграђују млађим пацијентима (са добрим квалитетом кости). Имају храпав и порозан  контакт између ендопротезе и лежишта, фиксира се урастањем коштаног ткива на површину ендопротезе. Обично дуже трају од цементни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. Цементне ендопротезе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арији пацијенти (лош квалитет костију, ОП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јвећи недостатак цементних ендопротеза је оштећење лежишта након дугог низа година коришћењ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Хибридне ендопротез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код ових ендопротеза једна компонента (обично феморална) се фиксира помоћу коштаног цемента, а друга (обично ацетабуларна) се фиксира бесцемент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вај тип фиксације се најчешће примењује код младих и физички активнијих пацијената (мањи је губитак кост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3:04:15Z</dcterms:created>
  <dc:creator>Veljkovic Miodrag</dc:creator>
  <dc:description/>
  <dc:language>en-US</dc:language>
  <cp:lastModifiedBy>Windows User</cp:lastModifiedBy>
  <dcterms:modified xsi:type="dcterms:W3CDTF">2020-02-12T10:32:59Z</dcterms:modified>
  <cp:revision>101</cp:revision>
  <dc:subject/>
  <dc:title>E N D O P R O T E Z A  K U K A ARTROPLASTIKA KUKA</dc:title>
</cp:coreProperties>
</file>